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9E5-9C0F-496F-ACC2-3170431D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ECE-D48B-4785-A4AA-9B742D1D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1F847-0D20-459E-A0F3-8120A0F9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943BA-E3A5-4208-BB6B-61B65423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B8153-C080-474D-991F-D121CCBB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F1C41-E3A8-4B74-A462-A761F7BE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5DB99-9A2C-4B28-9E91-B58D6826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FAEA0-C90C-4AC8-9991-F997D289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77A4F-8501-48AB-B67B-667A11DE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4749C-A79E-42B6-9CD0-1532030A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501D9-CCD0-42F4-89D0-6576A7D1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5EA08-A204-4BB1-977E-78B162EF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92F-1D76-4576-A248-499A5B2A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6B892-F7A8-4A4F-BD73-40518A0F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88DBA-6866-4213-BBFD-C3A98DCD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7C8F2-58F4-49D9-AD61-D6B95C83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62F1A-A240-45BE-9752-8CB87CAC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78ADA-3435-4540-8A89-CF355549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546DD-A38B-4DFE-AAFD-757E5A4E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C2F13-5544-4C83-A588-6A8B52C3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826AC-AAC6-4221-91FF-39BB9B23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32AB4-85CA-449D-B06E-B3BE76BE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56424-E160-4434-BAA1-740900B0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35B-BD39-4F58-9700-48742F7C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E875C-B2E3-40D6-B6E8-6F8D9ABF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97E34-DF01-4520-B43E-1B1D5681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603E4-3F1B-45F2-AC7A-8BC8C52E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6C394-D4B0-4006-AB49-8B0C542B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75DFD-238E-4FC7-AC87-78CE78DB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FC470-3212-41E6-B327-3BE1C8C6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953AF-8955-499F-B19F-A91D2415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804D5-739A-4BBA-B8D4-1A035D2B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41888-5511-4A4A-9630-0A5D7949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4887F-25DC-40A9-9BA4-A30832AF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2619-FA8B-462F-98BD-473DC679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CC8F8-DA9E-44DD-B72A-7E192947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C428C-47F1-4658-986B-95F0D8B4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40B04-9A5A-4D27-B66B-7CF6FD09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45CFD-5A8D-4526-B640-18D47548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0064F-98C2-4252-84C7-10F10EC8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D790E-423A-49CE-BCC1-24BF4CE1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C9929-753A-47D7-892D-9CDA9D59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85491-683E-4833-A812-20BB0098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8B125-E9C4-4187-88BB-68AC7569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47659-89A7-4F41-ACB7-C1FC3BED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D72D-9ACD-42E5-B8A8-31A50C63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D74BB-6AF4-4DF3-A411-8A0F9C51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642DA-38F2-49ED-BDAA-9A792EB7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B71D8-00A8-4E25-BDA3-9C3E863B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39070-43CF-453C-9D89-0454B22D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F1151-08EC-455A-991A-F03550B8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A692-7997-410B-9753-92FAB3F6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3F6B-BD81-4237-8048-DFAA66D9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8770-711C-4263-ACB2-D2DEB81A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15B4-118F-4393-AE9D-012FC1CB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D817-EA8A-48E5-8DA3-267FD5E0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DB9-61D1-4B6C-AAE8-C61417CA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666C-FAEC-4FA3-9C1A-A3E7C147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631F-046E-4965-AF06-F0C99B33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BAD3-FFDB-4B96-A660-7AC65EB7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D450-EEEF-4914-8EE4-70180FE6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ACBE-DA0A-4870-B351-F354161F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584A2-E966-45CC-845B-4619816F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16005-23EA-44A7-8AC6-2ADF5997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61496-771D-4E0E-8B2D-541FF0B2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E633-B149-4027-B95F-C4AB2382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FA446-74B8-48FA-A60E-98E58016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46D1-EA7B-4667-B4BA-1C93CDD6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C0B52-DC37-4C36-A6B7-E56F177E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7F98-E655-48AF-A550-2D8E5001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B191A-5CD2-4514-AD67-9D0BDA1C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8032B-9784-4B29-856C-A0B5FDA5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35996-E8A3-474D-A2A6-D121D663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CE870-A85E-4FA5-9B86-A4171AB9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FE802-7CD4-452F-B252-18DC2658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FA8B5-E70A-4578-ABC1-3F01BD74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B953A-638A-4C08-91B7-BAF11374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BCFDE-ED6F-4103-B71B-2847E87A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68B-2193-48D6-BE86-B4A73494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20ECE-59B6-4F91-A1BE-8D75B8EF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DDEA7-3299-410F-9A95-7D44E23D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F5F75-E91D-4547-9120-60E26A6B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EC497-F083-4DAA-80AF-DFF9A0BA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4CB18-5D84-44CD-A8DC-790BD0CB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3B07D-E4EC-4E07-88AA-9016B605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FE2B6-1E25-40BB-9B22-F1170391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E6195-BBB0-43E9-B33B-86B1685F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EA21-8BDC-41E4-932D-D8B9F29C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1E28F-178E-4F6B-B67D-EF4A7234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D4E-150B-4A94-8C97-DFF760AD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6282D-0BD7-44CD-B9E2-F2608393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3CDF8-1260-4415-A961-9F68B840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C8058-34CE-4AAE-9523-94282903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09544-CB6B-4B2E-8445-3158A5A2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03462-626A-45BE-8DB9-1775B8CC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29010-E4F6-427D-84D9-AE2AFBBA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D39D7-53E8-45FD-80F0-92D789C5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37437-5679-4AE4-BA81-D1B66EFA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7BDA9-EACC-4491-8E90-2A08D5F0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73228-D7FD-4AFA-8ED5-BE9A6DDE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421-62DF-49A1-9678-AE8E0830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9EFAC-74AE-4DAC-93F3-C24A7DA4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79BE9-D610-4447-86BE-735A5C4B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93948-DBFB-4DF0-B61E-B3C93D88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7586A-4A0C-4727-A976-42E73638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15994-79B7-410D-A265-621863CE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047B0-8DA8-4FA2-8970-32E3B4A6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1E50A-612A-4D28-AF77-BA0ED01A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EC394-6EE0-47C4-A4B5-9EFF04EE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74B9D-17DA-429C-B1F1-260497D9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742C1-F79D-459A-A492-ABBE3027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D90-657B-4BAE-B84B-B6E3FFC4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288DB-A15B-496D-9E1A-3BEB2145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E08DE-3757-427A-88FB-5C8FD6DE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59E84-DCB0-450F-80E9-0C01C286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D25D2-ECCC-4673-87A9-D5DD88B6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08D93-B50C-4F25-984E-2C90329C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4581D-5525-4678-8B75-CCAD0894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A2984-E124-4772-BD20-8151BF15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3E3A8-9A1B-4EF2-92D0-2174BEF7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59C48-6491-47AC-AC5F-F346F718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CE65E-45AC-4D30-9B4C-27E79FE3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B45-70FE-46D2-8789-96D0179D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51735-DBF9-43B3-B138-796E47EF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FCB01-52AB-4327-8251-622E7BA8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CB591-2180-4EEB-864D-0CFF96E6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F15E4-B167-44E9-82F9-A359E5F7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26E1F-8430-46D0-BD20-D544B1B4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8ABFE-36E4-4D84-AF10-130F30DB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4A103-FDC8-4352-ABA3-848EBE83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F21E4-B526-4E26-9856-219FB434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9E059-B3D8-4FDA-9C5F-84E22632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60047-2BE7-4F46-874B-630CD9BF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C2C-56FE-4C84-8E69-4260F487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343ED-83D3-46AA-9661-9B58B493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913E2-99DA-4A78-B61F-E41A97F4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C5D93-8742-4B8B-A2E6-75635D1F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C396E-DF0E-406F-9C3C-FDF352DB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D9966-60F7-4AC6-B001-7BEC4F5E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A58BF-795E-46C0-97C9-39229821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4A790-CE43-4E2E-AB5D-03684029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DF89D-16EC-41D4-BFEC-7930676A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B9DE5-AF24-4058-9837-4FF531E7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FEF90-BDFB-4FE5-B1C8-D563BC25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9D18-1CF7-4567-BB18-8CEC240D56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83BA-CCD5-4553-8874-AABE3A3C352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DCF4-9D2A-490F-8FDB-0F3D14A91A3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1B35-E670-4458-96EB-367365EC15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F360-C8BA-4854-9590-53D16C1F5D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9625-57DF-4FE3-97EC-7D229C9E58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F146-7D88-48A5-AF67-3FC04C05603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AD1B-B9FC-4920-B999-07C640AC38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24BB-F204-4E02-A4A7-D523069EFE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2CE6-30FB-4F20-850B-3E0635CB66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FAAF-5323-4786-8E64-047FC1FC4E3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AB08-2A60-48F3-AA74-3F2CE46253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92 Znie celým sve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sný t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ie celým svetom jasný tó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všetkých strán čuť hlas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čoskoro už príde o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Pán a Darca spás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eč Božia všetkých var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spánku budí spiaci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as žatvy prišiel, zvest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spasenia je vzác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radostné to posolstv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ľuďom nádej d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končí sa už otroctv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domov očak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príde, zmizne smrti tieň, čas sĺz sa nenavrá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skoro nastane ten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pasiteľ sa vrá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ť adventu tón radost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 liek na sveta rany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Pán splní sľub svoj slávnostný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už otvorme mu brá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ydobyl nám víťazstv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Bohu česť a sláv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Pane, tvoje kráľovstv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ľud ťa očakáv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3:37:28Z</dcterms:modified>
  <cp:revision>22</cp:revision>
  <dc:subject/>
  <dc:title>Je veľký náš Pán, on slávy je Kráľ Nech do všetkých strán  spev vrúcnych znie chvál.</dc:title>
</cp:coreProperties>
</file>